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png" ContentType="image/png"/>
  <Override PartName="/ppt/media/image15.png" ContentType="image/png"/>
  <Override PartName="/ppt/media/image14.png" ContentType="image/png"/>
  <Override PartName="/ppt/media/image9.png" ContentType="image/png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11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5278C-2365-4527-8BF1-BD4934B49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440D6-70F6-45C0-90D3-0F9308BAD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5C731-D01E-4031-87D9-9C0BE119B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0D068-A486-4A0B-B01F-EF84027E5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C0150-4704-46BF-95D6-91A8B4EA2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2DF80-48EA-4984-830A-0CFB48E89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F38F8-E0E8-4E17-844A-2A6720EFA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D472D-9140-4F1C-88B3-5D2A7F409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A4573-7894-433F-8B86-C80ED9475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CE024-9216-43E2-A670-E6EBB3C62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21D38-1C87-4CF5-BB98-71EBE26A1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774BD-923D-4585-8CDD-1E7785D00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26BDB-A27E-4DC4-993E-110A0F8A2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93527-FA7E-4BE9-888B-723A2BDD3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52669-1408-4BEF-B458-041FA951E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53BFF-3EAD-4334-A7CE-427C16832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2169A-BB48-427A-85AC-8C00F01DE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B20754-6F63-466E-91E6-557AD2205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81A47A-A9F8-4015-95D4-7D144314B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6D3CF2-8CDA-4F53-9FFB-8F4658AEF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ED34E7-84AD-4347-95DC-672F3F0C4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E5BFAD-6C33-438E-B356-ADFAB6F02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2E9AE-98F7-4FDF-BD6E-13123F35B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C3D5CA-482D-455C-9554-330CA74E6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5737F3-0575-4224-94A9-EC39670EC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AC014C-EBB7-41CA-B88A-C35D92316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8C4359-FF13-4388-A5FF-64A86A002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598CF4-EA15-414E-A620-5C1485E6E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3DF9C1-908E-42F9-86A5-8A5D9BDFE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C410A7-9C08-4D47-A2A2-1B1EFBDE3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FF1AD4-F45B-40BE-8799-A9465350B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6F3B96-CA14-473E-82D7-36FCCDC18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2F20F5-53C0-4141-9DCE-8FDCF1491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A2CB3-551A-4C02-9F0C-7E98C70B0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89001F-1AB1-40B0-9DF3-E03DD2F9C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9B0DFD-F3F8-45A5-A6EA-B1F7A45DA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8CDA64-68DF-4E5C-B08F-BDC96E07A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E7AE28-02C9-4A71-8B40-5FF271C15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E16773-B8DE-4821-BFC0-755623614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AC4640-7C4C-49BC-A7B4-92EAA6052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73AC5A-CD86-4A14-A07D-762A1C7B5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503151-E1E2-4917-812F-C54B317FB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A814D3-EC3E-417B-99B7-B84E66C34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2F62D5-1B3D-4F6C-8BA2-537EC828D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AE5DD-F173-4180-89F1-2EDA6B7B5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0C1D93-7CEC-4122-8490-967043340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161759-26FD-47A3-8BB9-9BE13C18F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7A2273-F035-4549-9826-73C7CB546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0A77A4-08A3-45C4-811E-8FE9C2DF0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B6B8E1-08A2-466D-8B74-AC41C4390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BAEB22-DD40-4E79-AC59-5594FFCB3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C2B24F-2829-4758-8A44-C7400D32B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05C5B8-4512-4836-990B-C8FD260FE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455280-FD5F-43CF-B2CC-FE0F27783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753A29-077F-465C-92DC-0725BD837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22157-26E3-4F16-BAAB-5623B591D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07A571-ABA2-4154-9FCC-737C958BB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A772CC-0D3A-46A9-97F2-9F18B0D4E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AC70DC-FEF9-477A-9103-2E70044C2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0A612F-3797-4E36-AA25-43B6E6222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8AE0C7-8C8D-46A4-AA86-BE026B6D4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D1EE02-9282-4CF2-88D1-3E7CD2733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8CC875-37CF-4B14-9A14-29F1AD400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FFF15E-0992-4F4C-BC80-6224368FC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C1A59D-A333-41C2-B3DD-C4D114F22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98AFC2-C244-4A8E-A4A0-3FB5B3781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1E2E2-01FA-46E0-9FA8-934AAA2C5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15D24D-47E7-42B1-B8E5-42668D1B1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28F21A-A57A-4137-898F-C25301D74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DF81DB-AFAF-40A1-AF38-E83E8B9E1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3AB5DE-ED0E-4D7F-86B8-85BA1CEF4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550D10-C00A-4C34-9411-D9A89B56B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74F069-E92B-44C1-BDBA-7ACCF63A2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C07B64-5200-4E33-BA50-93E7A3710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4D719C-26DE-4CD4-832C-DC6839B5A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A9C418-EC3E-4E1F-A455-CB0E59D43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136416-6F80-43F5-A6EE-7C952DEC6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104AB-8699-4B81-B394-13730E6D0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8A0401-2378-40C6-9873-F2A21C549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8D6E3C-A015-4230-9696-3D32E391C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64C84E-9EF4-40F4-BE31-6928AC53D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778DB4-1366-49DE-84F9-3BB30A0E7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BD296D-3D1A-4213-B362-85429EF75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BFD8C-86C5-44B5-9EA5-0432D80BC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52E06-F0BF-4091-872C-135D01247FBA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Oval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Oval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Ov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762F0-918C-4F0C-AE5A-47C5B60F7337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Oval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Oval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Oval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985A1-EB42-478D-872B-D95C113C5882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A72C7-98B1-4106-8F40-59CCE7F00543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DE782-DFE8-4C1D-B10E-D963E9892F61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1FF64-F53F-452D-B579-C9C61D0AF4D1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Rectangle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Rectangle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Flowchart: Proces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Flowchart: Proces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FEAA2-257D-40C5-8316-435BFF83B286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The Endocrine System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19" name="Picture 2" descr=""/>
          <p:cNvPicPr/>
          <p:nvPr/>
        </p:nvPicPr>
        <p:blipFill>
          <a:blip r:embed="rId1"/>
          <a:stretch/>
        </p:blipFill>
        <p:spPr>
          <a:xfrm>
            <a:off x="2133720" y="2057400"/>
            <a:ext cx="528300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1434960" y="533160"/>
            <a:ext cx="74995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Gill Sans MT"/>
              </a:rPr>
              <a:t>Pituitary Gland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Often called master gland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ontrols other gland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Gill Sans MT"/>
              </a:rPr>
              <a:t>Pineal Gland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nvolved in circadian rhythm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Gill Sans MT"/>
              </a:rPr>
              <a:t>Thyroid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Regulates metabolism with thyroxin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3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3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3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3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1434960" y="533160"/>
            <a:ext cx="74995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Gill Sans MT"/>
              </a:rPr>
              <a:t>Parathyroid gland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4 in tota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Parathyroid hormone controls calcium level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39" name="Picture 2" descr=""/>
          <p:cNvPicPr/>
          <p:nvPr/>
        </p:nvPicPr>
        <p:blipFill>
          <a:blip r:embed="rId1"/>
          <a:stretch/>
        </p:blipFill>
        <p:spPr>
          <a:xfrm>
            <a:off x="3352680" y="2333520"/>
            <a:ext cx="3829320" cy="45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1434960" y="609480"/>
            <a:ext cx="749952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Gill Sans MT"/>
              </a:rPr>
              <a:t>Thymu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Releases hormones to stimulate immune system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Gill Sans MT"/>
              </a:rPr>
              <a:t>Pancrea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Produces insulin and glucago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Have opposite effects on blood sugar level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3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3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1434960" y="609480"/>
            <a:ext cx="749952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Gill Sans MT"/>
              </a:rPr>
              <a:t>Adrenal gland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Releases epinephrin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Also site of cortisol releas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42" name="Picture 3" descr=""/>
          <p:cNvPicPr/>
          <p:nvPr/>
        </p:nvPicPr>
        <p:blipFill>
          <a:blip r:embed="rId1"/>
          <a:stretch/>
        </p:blipFill>
        <p:spPr>
          <a:xfrm>
            <a:off x="1066680" y="2286000"/>
            <a:ext cx="7467840" cy="44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1434960" y="533160"/>
            <a:ext cx="74995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Ovaries and Teste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Produce sex-specific hormone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Responsible for secondary sex characteristics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Maintaining Homeostasi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e body can respond to internal condition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Insulin released when blood glucose levels are high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However, what is released can have a effect on the pathway that created i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ese are feedback mechanism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Have both positive and negativ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1434960" y="533160"/>
            <a:ext cx="74995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Negative (more common) feedbacks involve inhibition of pathways by end product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Positive (less common) feedbacks stimulate pathways by end product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500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500"/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Metabolism Control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768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ncreased thyroxine levels spike metabolism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But, how is it released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Lowered thyroxine stimulates hypothalamus to release thyrotropin-releasing hormone (TRH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ravels to pituitary, releases thyroid-stimulating hormone (TSH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Gill Sans MT"/>
              </a:rPr>
              <a:t>Now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thyroid releases thyroxin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500"/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500"/>
                                        <p:tgtEl>
                                          <p:spTgt spid="3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500"/>
                                        <p:tgtEl>
                                          <p:spTgt spid="3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 txBox="1"/>
          <p:nvPr/>
        </p:nvSpPr>
        <p:spPr>
          <a:xfrm>
            <a:off x="1434960" y="609480"/>
            <a:ext cx="749952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e negative feedback comes in play when high levels of thyroxine inhibits release of both TRH and TSH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50" name="Picture 2" descr=""/>
          <p:cNvPicPr/>
          <p:nvPr/>
        </p:nvPicPr>
        <p:blipFill>
          <a:blip r:embed="rId1"/>
          <a:stretch/>
        </p:blipFill>
        <p:spPr>
          <a:xfrm>
            <a:off x="2819520" y="2057400"/>
            <a:ext cx="4267080" cy="47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500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8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Insulin and Glucagon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ometimes hormones act in opposing mechanism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Blood glucose level needs to be kept at 90 mg/100m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When it drops,  alpha cells of pancreas release glucago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Absorbed by liver, glycogen broken down into glucos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Levels go up, alpha cells shut off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500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500"/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500"/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500"/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Hormon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Recall that neurons have the ability to communicat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However, this is merely cell-to-cel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What if a signal needed to be sent to more than one cell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s is the role of the endocrine system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eleases chemicals into bloodstream to rest of body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1434960" y="533160"/>
            <a:ext cx="74995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When blood glucose levels are high, beta cells release insuli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Body cells absorb glucose, liver synthesizes glycoge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Levels drop, beta cells shut off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Problems in these systems lead to diabetes and hypoglycemia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500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500"/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500"/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500"/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Picture 2" descr=""/>
          <p:cNvPicPr/>
          <p:nvPr/>
        </p:nvPicPr>
        <p:blipFill>
          <a:blip r:embed="rId1"/>
          <a:stretch/>
        </p:blipFill>
        <p:spPr>
          <a:xfrm>
            <a:off x="1219320" y="228600"/>
            <a:ext cx="6781680" cy="609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Homework!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Determine the difference between the pathways for water-soluble and lipid-soluble hormone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nd and describe an example of a positive feedback mechanism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1434960" y="685800"/>
            <a:ext cx="749952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ese chemicals are hormone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wo major classes based on chemical structur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an be water soluble or lipid solubl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nd can be exist as a polypeptide, steroid, or amin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Released by glands, they have one or two possible destinations: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Onto body surface or into body cavities (exocrine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Into the bloodstream (endocrine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3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3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3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2" descr=""/>
          <p:cNvPicPr/>
          <p:nvPr/>
        </p:nvPicPr>
        <p:blipFill>
          <a:blip r:embed="rId1"/>
          <a:stretch/>
        </p:blipFill>
        <p:spPr>
          <a:xfrm>
            <a:off x="1143000" y="1676520"/>
            <a:ext cx="4121280" cy="327636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4" descr="http://learnthedigestivesystem.weebly.com/uploads/4/9/0/5/4905858/9712925.jpg"/>
          <p:cNvPicPr/>
          <p:nvPr/>
        </p:nvPicPr>
        <p:blipFill>
          <a:blip r:embed="rId2"/>
          <a:stretch/>
        </p:blipFill>
        <p:spPr>
          <a:xfrm>
            <a:off x="5562720" y="1523880"/>
            <a:ext cx="304776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1434960" y="4343400"/>
            <a:ext cx="749952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Although the effects of hormones can be long lasting, they can also take a period of time to reach target cell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26" name="Picture 4" descr="http://ecommunity.pwsd76.ab.ca/file.php/11/moddata/resource/7104/biology_30/images/m2/b30_m2_021_l.jpg"/>
          <p:cNvPicPr/>
          <p:nvPr/>
        </p:nvPicPr>
        <p:blipFill>
          <a:blip r:embed="rId1"/>
          <a:stretch/>
        </p:blipFill>
        <p:spPr>
          <a:xfrm>
            <a:off x="1752480" y="304920"/>
            <a:ext cx="672480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Local Regulator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milar to hormones, but have no need to enter bloodstream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arget cells are nearby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wo types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Paracrine – secreting cell is next to targe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utocrine – molecules act on secreting cell itself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Neurotransmitters and Neurohormones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1434960" y="1447920"/>
            <a:ext cx="749952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Lastly, we have already seen secreting action through neurotransmitter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Neurohormones are a special class where the hormone is released from a neuron instead of a gland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31" name="Picture 2" descr="http://media-2.web.britannica.com/eb-media/24/6524-004-796DF346.gif"/>
          <p:cNvPicPr/>
          <p:nvPr/>
        </p:nvPicPr>
        <p:blipFill>
          <a:blip r:embed="rId1"/>
          <a:stretch/>
        </p:blipFill>
        <p:spPr>
          <a:xfrm>
            <a:off x="2209680" y="4114800"/>
            <a:ext cx="56674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Major Gland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10 in tota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34" name="Picture 4" descr=""/>
          <p:cNvPicPr/>
          <p:nvPr/>
        </p:nvPicPr>
        <p:blipFill>
          <a:blip r:embed="rId1"/>
          <a:stretch/>
        </p:blipFill>
        <p:spPr>
          <a:xfrm>
            <a:off x="3657600" y="1219320"/>
            <a:ext cx="4191120" cy="549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1434960" y="456840"/>
            <a:ext cx="749952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Gill Sans MT"/>
              </a:rPr>
              <a:t>Hypothalamu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Hormones both used by,  and stored in, pituitary gland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36" name="Picture 2" descr=""/>
          <p:cNvPicPr/>
          <p:nvPr/>
        </p:nvPicPr>
        <p:blipFill>
          <a:blip r:embed="rId1"/>
          <a:stretch/>
        </p:blipFill>
        <p:spPr>
          <a:xfrm>
            <a:off x="2514600" y="2362320"/>
            <a:ext cx="4876920" cy="411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7T01:58:28Z</dcterms:created>
  <dc:creator>ED18</dc:creator>
  <dc:description/>
  <dc:language>en-US</dc:language>
  <cp:lastModifiedBy>ED18</cp:lastModifiedBy>
  <dcterms:modified xsi:type="dcterms:W3CDTF">2011-05-24T10:27:02Z</dcterms:modified>
  <cp:revision>10</cp:revision>
  <dc:subject/>
  <dc:title>The Endocrine System</dc:title>
</cp:coreProperties>
</file>